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8C5-EBD5-45A2-B9AC-7490D82EC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B25-F293-4D82-949D-F32E0BBC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7F3C-C8AB-4B58-AC4D-F52B6A31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620F-CC4B-4215-B0A7-FC14CA9F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CA9-0EBC-493C-B75B-33AFF7851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3A3C-D970-4D25-AA72-4CFBDE87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1934-1A95-49BE-A995-3E05C83F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DD11-E59F-4719-8205-C0BBCDC0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BA58-EFC3-4F20-A392-15E12FED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BD5B-3CF2-483B-9939-7AB23B4F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4C2-9680-43CA-84EE-86C88AC9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9ED9-11E6-4E57-853C-59FD3BD5A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546D-81FC-47CD-B567-8B91484F0E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0:52:24Z</dcterms:created>
  <dc:creator>James Dorsey IV</dc:creator>
  <dc:description/>
  <dc:language>en-US</dc:language>
  <cp:lastModifiedBy>James Dorsey IV</cp:lastModifiedBy>
  <dcterms:modified xsi:type="dcterms:W3CDTF">2011-04-04T00:53:09Z</dcterms:modified>
  <cp:revision>1</cp:revision>
  <dc:subject/>
  <dc:title>Inclusion</dc:title>
</cp:coreProperties>
</file>